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F08-6E0E-494B-9AAE-9E74A2F8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80B-D8AC-4CCD-8582-E4145B1B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2B8-A3CD-47FD-B653-FC45643C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5AC-6E3E-449E-B683-D39B209D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5ED2-1F70-4AE8-AE01-D93389F0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09C-A782-4EF1-A74A-F0DCCF2D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305B-32E8-4B92-9BFD-E1D9851E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6F9F-1AEF-4122-AA1D-3AA0229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F62-2243-4A11-B556-4C350647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6DB-1C3A-4814-8979-35A2ADB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1B7-8C26-456A-AF61-19D913E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318-1DE4-4E52-AD9A-F15D7BD4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414-1E96-43B8-A2ED-1713455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7363-EF7B-4FED-B6E7-98CB156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DAB0-B499-40BC-90E3-0E42C3A8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D0D3-DD61-4A05-B013-D6A8486C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5D9-3FEE-45B7-B51D-450315F9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116-7AF8-4ED5-A3F3-F01D6FE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420-420C-4063-BA64-EEE9235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8FA-5557-4B2E-90E5-2E13303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2A4-6120-473B-B787-B4013C7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1F9-4C1E-4BF1-B5EA-83DB2E8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C42-208C-48DC-A560-69337C3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1B2-B224-41E3-86F7-63FF565A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19D-5A52-431C-ACE0-2B79032D8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046C-648B-4066-BAA9-22BE6B1FE6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utes of the Lord are right, rejoicing the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andment of the Lord is pure, enlightening the e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ear of the Lord is clean, enduring fore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udgments of the Lord are true, and righteous al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 thanks to the Lord, our God and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He is good, He is above all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a mighty hand and outstretched 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life that's been rebo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stro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 God is with 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, Forev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rising to the setting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the grace of God we will carry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love endures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God is stro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 God is with 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ever, Forev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medi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praise, sing 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You are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 You are stro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Forever You are with 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Forever, For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ve thanks to the Lord of Lords… to Him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o does great wonders; His love endures forever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s 136: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Call Upon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call upon the Lor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worthy to be prais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shall I be saved from my enem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 the Lord live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lessed be the Roc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the God of my salvation be exalted.  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Christ died for 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took away my s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live with Him for eter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 the Lord live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lessed be the Roc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the God of my salvation be exalted.  (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us praise the Lord of Lor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him now and evermo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Father, Son, and the Spi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know the Lord live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lessed be the Roc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the God of my salvation be exalted.  (4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will call upon the Lord (women ec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Need Your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I need your love in this shadowed pla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get enough of your sunlight on my 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t’s cold and dark, or I’m far from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in my heart, and I never walk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like a tree planted by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sty for a drink of your lo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face a day, without some time to pr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ing this song to say I need your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a tiny child, but when I’m with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not grow tired, ‘cause there’s nothing you can’t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love makes me strong though I’m small and we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whole day long you’ll speak through me when I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like a tree planted by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sty for a drink of your lo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face a day, without some time to pr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ing this song to say I need your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gave all for me though I’d cursed your nam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at bitter tree, Lord, you suffered for my sh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I thank you? Your love paid my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at I can do is live for you ever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like a tree planted by a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sty for a drink of your lo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’t face a day, without some time to pr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ing this song to say I need your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9:7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praise you with an upright hear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as I learn your righteous law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obey your decrees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do not utterly forsake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a young man keep his way pure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By living according to your word.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eek you with all my heart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do not let me stray from your comma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hidden your word in my hear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that I might not sin against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be to you, O LORD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  teach me your decre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 of the lord is perfect, converting the so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imony of the Lord is sure, making wise the sim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o be desired are they than gol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, than much fine gol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eter also than honey and the honey com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16:30:08Z</dcterms:created>
  <dc:creator>Peter Rivezzo</dc:creator>
  <dc:description/>
  <dc:language>en-US</dc:language>
  <cp:lastModifiedBy>Peter Rivezzo</cp:lastModifiedBy>
  <dcterms:modified xsi:type="dcterms:W3CDTF">2008-08-06T00:21:26Z</dcterms:modified>
  <cp:revision>6</cp:revision>
  <dc:subject/>
  <dc:title>Slide 1</dc:title>
</cp:coreProperties>
</file>